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099-3A5F-44A6-917B-6506F690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8CC-199F-49CC-9B6F-C3687355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59F-12E4-4757-B4C1-46364F2D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26E-066D-406E-8992-8F3D6A2F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DB9-033D-4FEF-BDA3-3A44758B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BCD-0599-46C9-BAAA-A8492097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1E9-F039-414F-8561-DA88C1CE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E6C-A3DF-4821-B1AD-2A2B1292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82C-B4E9-4D59-B1ED-AB8794A3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3A3-093E-411F-B2C2-AE0999B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8A4-0CED-48F9-9333-29B09BF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500-86D8-43A3-B7EB-BE3812EE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44A2-542D-4E0E-A466-726487A1D31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IX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28760" y="14670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(feminine)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2168640"/>
            <a:ext cx="4071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ν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θενεια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χη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ορτη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στολη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υσια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57840" y="2324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e,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57840" y="2957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ness,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57840" y="357192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ing (act and con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57840" y="4181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57840" y="47862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ter (correspon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857840" y="54100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ing, sacri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4280" y="1643040"/>
            <a:ext cx="4071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ωμη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χαιρα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φελη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ουσια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τομ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ρνει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857840" y="17985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857840" y="2432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857840" y="304632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857840" y="3656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ce,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857840" y="4260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m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857840" y="48848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xual immo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428840" y="1214280"/>
            <a:ext cx="40719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υχ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μονη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υλη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ηρα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ωρα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072040" y="137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072040" y="2003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072040" y="26179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be,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072040" y="3227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072040" y="38322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try(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785880" y="4552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1457280" y="4991040"/>
            <a:ext cx="4286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ρεις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τρι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neuter noun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5072040" y="51530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143000" y="1500120"/>
            <a:ext cx="4429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σσαρες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τεσσαρ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neuter nouns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ντε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ξ (1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πτα (8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κτω (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νεα (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214960" y="1671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214960" y="29098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14960" y="35244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214960" y="41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214960" y="4757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214960" y="53672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214280" y="1143000"/>
            <a:ext cx="44294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κ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ωδεκα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κατον (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ιλια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ωτος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υτερος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ριτος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286240" y="1343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286240" y="19288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286240" y="25430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hund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286240" y="31478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thou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5286240" y="3776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5286240" y="43862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5286240" y="5010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357120" y="5715000"/>
            <a:ext cx="8072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te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ο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, learnt in Chapte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571680" y="157176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cla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214280" y="2357280"/>
            <a:ext cx="350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αι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71680" y="3214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wo common words whose stems are irregular in the Perfect A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214280" y="4349880"/>
            <a:ext cx="65008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ωρακα -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ηκοα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929120" y="23670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06:27Z</dcterms:created>
  <dc:creator>Sarah</dc:creator>
  <dc:description/>
  <dc:language>en-US</dc:language>
  <cp:lastModifiedBy>Sarah</cp:lastModifiedBy>
  <dcterms:modified xsi:type="dcterms:W3CDTF">2009-07-09T16:39:13Z</dcterms:modified>
  <cp:revision>22</cp:revision>
  <dc:subject/>
  <dc:title>Slide 1</dc:title>
</cp:coreProperties>
</file>